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C605-A0E0-4A60-A456-C3186619D22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CDD9-62BE-4185-A6A2-2CBAA8F114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BF1E-C3B8-4DDC-911A-CC1E06ABFB1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7778-863C-4BC7-9BB2-4E19A2893AF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88D8-7664-47F4-8DC1-923F5934ABD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A624-59E3-4438-BF95-48CA6420B80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7FD9-825F-4EA8-BF39-750297D4CCC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9759-FF11-490D-B467-36141B88F3C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F0B1-BF94-4EB9-907B-D60569DEE3C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CB23-4E22-469D-96F0-FB212CA1FE1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6312-6659-4F79-88CA-1B1353A22AC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C814-9DA3-4D53-9865-A22C5957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1E00-11ED-4A72-9BA0-EC6C78B7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1B7-666B-46BD-97E2-1C55627F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67E5-0887-49DB-A449-CFAE2689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32FC-1943-445F-BEFD-24ECEB6E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A262-88A7-4A9B-AEAF-C86ABA3A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DCD-B92F-4F9D-8AB0-57D605C3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13E-A1E4-4174-945D-93480A91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24EB-37AA-4979-A1BF-29292365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1AB-EA69-4A26-8956-485F5BB1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F16C-9A33-42B7-9013-A7227A3F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3BB-0C76-449E-A6CB-55A4954D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A893-19CD-4BE0-A54E-644C888F9F6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OLILLA 9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EGRACION METABO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7772400" cy="4114800"/>
          </a:xfrm>
          <a:prstGeom prst="rect">
            <a:avLst/>
          </a:prstGeom>
          <a:solidFill>
            <a:srgbClr val="d1fff3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Papel del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Requerimientos de poder redu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ompartimentalización enzimát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Homeostasis de la gluco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Niveles enzimáticos. Centros de control de las principales vías metabólicas: glicólisis, ciclo de Krebs, vía pentosa, gluconeogénesis, metabolismo del glucógeno, metabolismo de ácidos gras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onexiones claves: glucosa-6-fosfato, piruvato y acetil coenzima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Perfil metabólico de los órganos más importantes: cerebro, músculo, tejido adiposo, híg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Adaptación metabólica al ayuno prolongado. Ciclo ayuno-aliment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-27000"/>
            <a:ext cx="8280360" cy="1062000"/>
          </a:xfrm>
          <a:prstGeom prst="rect">
            <a:avLst/>
          </a:prstGeom>
          <a:gradFill rotWithShape="0">
            <a:gsLst>
              <a:gs pos="0">
                <a:srgbClr val="0e521b"/>
              </a:gs>
              <a:gs pos="50000">
                <a:srgbClr val="1fb13b"/>
              </a:gs>
              <a:gs pos="100000">
                <a:srgbClr val="0e521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MPARTIMENTALIZAC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68360" y="1125360"/>
            <a:ext cx="3902040" cy="1921320"/>
          </a:xfrm>
          <a:prstGeom prst="rect">
            <a:avLst/>
          </a:prstGeom>
          <a:solidFill>
            <a:srgbClr val="00e0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icóli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tabolismo del gluc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ía de las pentosas fosf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íntesis de á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754520" y="2492280"/>
            <a:ext cx="4389480" cy="1921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triz mitocond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clo del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sforilación oxidati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oxidación de los ácidos gra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mación de cuerpos 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116000" y="5373720"/>
            <a:ext cx="6465960" cy="1189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e0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relación entre ambos compartimien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uconeogén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íntesis de la u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6"/>
          <p:cNvSpPr/>
          <p:nvPr/>
        </p:nvSpPr>
        <p:spPr>
          <a:xfrm>
            <a:off x="463680" y="2919240"/>
            <a:ext cx="3752640" cy="2313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1182600" y="3495600"/>
            <a:ext cx="2241720" cy="116208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8"/>
          <p:cNvSpPr/>
          <p:nvPr/>
        </p:nvSpPr>
        <p:spPr>
          <a:xfrm>
            <a:off x="1344600" y="3595680"/>
            <a:ext cx="1906560" cy="88884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 flipH="1">
            <a:off x="2916000" y="2852640"/>
            <a:ext cx="1942920" cy="1081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826920" y="2708280"/>
            <a:ext cx="0" cy="144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1"/>
          <p:cNvSpPr/>
          <p:nvPr/>
        </p:nvSpPr>
        <p:spPr>
          <a:xfrm flipV="1">
            <a:off x="2124000" y="422064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2"/>
          <p:cNvSpPr/>
          <p:nvPr/>
        </p:nvSpPr>
        <p:spPr>
          <a:xfrm flipV="1">
            <a:off x="2124000" y="5011200"/>
            <a:ext cx="43200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9080" cy="1719000"/>
          </a:xfrm>
          <a:prstGeom prst="rect">
            <a:avLst/>
          </a:prstGeom>
          <a:solidFill>
            <a:srgbClr val="ddf6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n el metabolismo de los lípidos (Biosíntesis y Degradación) la compartimentalización de ambos procesos permite su regulación. Expli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11280" y="3284640"/>
            <a:ext cx="7777080" cy="2043720"/>
          </a:xfrm>
          <a:prstGeom prst="rect">
            <a:avLst/>
          </a:prstGeom>
          <a:solidFill>
            <a:srgbClr val="dd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Intermediarios de Vías metabólicas sintetizados en mitocondrias pueden regular vías metabólicas que tienen lugar en citosol. Ejemplifi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620640"/>
          </a:xfrm>
          <a:prstGeom prst="rect">
            <a:avLst/>
          </a:prstGeom>
          <a:gradFill rotWithShape="0">
            <a:gsLst>
              <a:gs pos="0">
                <a:srgbClr val="76765e"/>
              </a:gs>
              <a:gs pos="50000">
                <a:srgbClr val="ffffcc"/>
              </a:gs>
              <a:gs pos="100000">
                <a:srgbClr val="76765e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OMEOSTASIS DE LA GLUC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258920" y="1052640"/>
            <a:ext cx="7200720" cy="398880"/>
          </a:xfrm>
          <a:prstGeom prst="rect">
            <a:avLst/>
          </a:prstGeom>
          <a:gradFill rotWithShape="0">
            <a:gsLst>
              <a:gs pos="0">
                <a:srgbClr val="287662"/>
              </a:gs>
              <a:gs pos="50000">
                <a:srgbClr val="57ffd3"/>
              </a:gs>
              <a:gs pos="100000">
                <a:srgbClr val="2876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OS NIVELES DE GLUCOSA EN SANGRE SON ES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2340000" y="1623960"/>
            <a:ext cx="5256360" cy="11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lucemia en ayunas, sangre ven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70-110 mg/d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68360" y="3211560"/>
            <a:ext cx="208764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IODO POSPRAN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2700360" y="3139920"/>
            <a:ext cx="289080" cy="792360"/>
          </a:xfrm>
          <a:prstGeom prst="upArrow">
            <a:avLst>
              <a:gd name="adj1" fmla="val 50000"/>
              <a:gd name="adj2" fmla="val 6852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059280" y="3067200"/>
            <a:ext cx="216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AXIMA GLU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30´- 1 h desp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6372360" y="3211560"/>
            <a:ext cx="360360" cy="863640"/>
          </a:xfrm>
          <a:prstGeom prst="downArrow">
            <a:avLst>
              <a:gd name="adj1" fmla="val 50000"/>
              <a:gd name="adj2" fmla="val 59915"/>
            </a:avLst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5076720" y="3284640"/>
            <a:ext cx="1224000" cy="43164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6732720" y="3067200"/>
            <a:ext cx="1368360" cy="93636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I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5364000" y="2924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-3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1403280" y="4437000"/>
            <a:ext cx="6481800" cy="1079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 regulatorio integrado por horm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1547640" y="6093000"/>
            <a:ext cx="6409080" cy="398880"/>
          </a:xfrm>
          <a:prstGeom prst="rect">
            <a:avLst/>
          </a:prstGeom>
          <a:solidFill>
            <a:srgbClr val="eea2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segura suministro permanente a los tejidos (SNC ppl/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964720" cy="1143000"/>
          </a:xfrm>
          <a:prstGeom prst="rect">
            <a:avLst/>
          </a:prstGeom>
          <a:gradFill rotWithShape="0">
            <a:gsLst>
              <a:gs pos="0">
                <a:srgbClr val="287662"/>
              </a:gs>
              <a:gs pos="50000">
                <a:srgbClr val="57ffd3"/>
              </a:gs>
              <a:gs pos="100000">
                <a:srgbClr val="287662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A EL MANTENIMIENTO DEL NIVEL NORMAL DE GLUCOSA INDI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68360" y="2421000"/>
            <a:ext cx="2592360" cy="703800"/>
          </a:xfrm>
          <a:prstGeom prst="rect">
            <a:avLst/>
          </a:prstGeom>
          <a:solidFill>
            <a:srgbClr val="1fb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CESOS HIPER- GLUCEMI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68360" y="4797360"/>
            <a:ext cx="2592360" cy="703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CESOS HIPO- GLUCEMI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995640" y="2205000"/>
            <a:ext cx="4537080" cy="1944720"/>
          </a:xfrm>
          <a:prstGeom prst="rect">
            <a:avLst/>
          </a:pr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3995640" y="4437000"/>
            <a:ext cx="4537080" cy="1944720"/>
          </a:xfrm>
          <a:prstGeom prst="rect">
            <a:avLst/>
          </a:pr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94788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NDIQUE SOBRE QUE VIAS METABÓLICA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INTERVIENEN IAS HORMONAS PARA MANTENER LA HOMEOSTASIS DE 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58920" y="2492280"/>
            <a:ext cx="3960720" cy="3959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A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DRENA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CORTIC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CORTIS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564000" y="1484280"/>
            <a:ext cx="25207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5219640" y="2421000"/>
            <a:ext cx="370836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5292720" y="3830760"/>
            <a:ext cx="360036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5796000" y="5445000"/>
            <a:ext cx="309564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2771640" y="1484280"/>
            <a:ext cx="576360" cy="216000"/>
          </a:xfrm>
          <a:custGeom>
            <a:avLst/>
            <a:gdLst>
              <a:gd name="textAreaLeft" fmla="*/ 100800 w 576360"/>
              <a:gd name="textAreaRight" fmla="*/ 417960 w 576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157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468360" y="1484280"/>
            <a:ext cx="20160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INSU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3708360" y="278136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3924360" y="407664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7"/>
          <p:cNvSpPr/>
          <p:nvPr/>
        </p:nvSpPr>
        <p:spPr>
          <a:xfrm>
            <a:off x="4572000" y="5661000"/>
            <a:ext cx="1297080" cy="289080"/>
          </a:xfrm>
          <a:prstGeom prst="rightArrow">
            <a:avLst>
              <a:gd name="adj1" fmla="val 50000"/>
              <a:gd name="adj2" fmla="val 11217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229600" cy="908280"/>
          </a:xfrm>
          <a:prstGeom prst="rect">
            <a:avLst/>
          </a:prstGeom>
          <a:gradFill rotWithShape="0">
            <a:gsLst>
              <a:gs pos="0">
                <a:srgbClr val="57576c"/>
              </a:gs>
              <a:gs pos="50000">
                <a:srgbClr val="bdbde9"/>
              </a:gs>
              <a:gs pos="100000">
                <a:srgbClr val="57576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GULACION DEL METABOL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917720"/>
            <a:ext cx="22320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MEDI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08000" y="3787920"/>
            <a:ext cx="22320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DI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276720" y="1125360"/>
            <a:ext cx="2808000" cy="5205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z. Alostér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276720" y="2062080"/>
            <a:ext cx="2808000" cy="9471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odif. Coval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844720" y="3716280"/>
            <a:ext cx="3167280" cy="5205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c.de Enz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8"/>
          <p:cNvSpPr/>
          <p:nvPr/>
        </p:nvSpPr>
        <p:spPr>
          <a:xfrm>
            <a:off x="5869080" y="2711160"/>
            <a:ext cx="3240000" cy="1652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0" bIns="39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9"/>
          <p:cNvSpPr/>
          <p:nvPr/>
        </p:nvSpPr>
        <p:spPr>
          <a:xfrm flipH="1" flipV="1">
            <a:off x="6084720" y="2491920"/>
            <a:ext cx="503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"/>
          <p:cNvSpPr/>
          <p:nvPr/>
        </p:nvSpPr>
        <p:spPr>
          <a:xfrm flipH="1">
            <a:off x="6012000" y="4005360"/>
            <a:ext cx="50472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2700360" y="981000"/>
            <a:ext cx="576360" cy="2376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484360" y="3645000"/>
            <a:ext cx="432000" cy="720720"/>
          </a:xfrm>
          <a:custGeom>
            <a:avLst/>
            <a:gdLst>
              <a:gd name="textAreaLeft" fmla="*/ 276120 w 432000"/>
              <a:gd name="textAreaRight" fmla="*/ 432360 w 432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0" y="5661000"/>
            <a:ext cx="504036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ARTIMENTALIZ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148360" y="5013360"/>
            <a:ext cx="3635280" cy="1572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MB.MITOC.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PLEJOS. MULTI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003640" y="4869000"/>
            <a:ext cx="216000" cy="1989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1840 h 1989000"/>
              <a:gd name="textAreaBottom" fmla="*/ 1937160 h 198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143000"/>
          </a:xfrm>
          <a:prstGeom prst="rect">
            <a:avLst/>
          </a:prstGeom>
          <a:gradFill rotWithShape="0">
            <a:gsLst>
              <a:gs pos="0">
                <a:srgbClr val="6d988d"/>
              </a:gs>
              <a:gs pos="100000">
                <a:srgbClr val="bdfff2"/>
              </a:gs>
            </a:gsLst>
            <a:lin ang="0"/>
          </a:gradFill>
          <a:ln w="9360">
            <a:solidFill>
              <a:srgbClr val="00cc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Regulación de Enzimas Aloste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571680" y="1857240"/>
            <a:ext cx="7772400" cy="457200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Metabolismo de Hidratos de Carb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Metabolismo de Líp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Metabolismo de Aminoá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Metabolismo de Nucleót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143000"/>
          </a:xfrm>
          <a:prstGeom prst="rect">
            <a:avLst/>
          </a:prstGeom>
          <a:solidFill>
            <a:srgbClr val="ffd1e4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imes New Roman"/>
              </a:rPr>
              <a:t>Regulación Coval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Rectangle 3"/>
          <p:cNvGrpSpPr/>
          <p:nvPr/>
        </p:nvGrpSpPr>
        <p:grpSpPr>
          <a:xfrm>
            <a:off x="493560" y="1994040"/>
            <a:ext cx="7785360" cy="3870360"/>
            <a:chOff x="493560" y="1994040"/>
            <a:chExt cx="7785360" cy="3870360"/>
          </a:xfrm>
        </p:grpSpPr>
        <p:pic>
          <p:nvPicPr>
            <p:cNvPr id="197" name="Rectangle 3" descr=""/>
            <p:cNvPicPr/>
            <p:nvPr/>
          </p:nvPicPr>
          <p:blipFill>
            <a:blip r:embed="rId1"/>
            <a:stretch/>
          </p:blipFill>
          <p:spPr>
            <a:xfrm>
              <a:off x="493560" y="1994040"/>
              <a:ext cx="778536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00040" y="2000160"/>
              <a:ext cx="7772400" cy="38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Times New Roman"/>
                </a:rPr>
                <a:t>Metabolismo de Hidratos de Carbo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Times New Roman"/>
                </a:rPr>
                <a:t>Metabolismo de Lípid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Regulación a nivel de la Transcripcion ó de la Tra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642680"/>
            <a:ext cx="9215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tabolismo de Hidratos de Carb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Glucoquinasa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, Glucógeno sintas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nzimas de las reacciones irreversibles de la vía glicolítica y enzimas específicas de la gluconeogéne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tabolismo de Lípid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s-ES" sz="3200" spc="-1" strike="noStrike">
                <a:solidFill>
                  <a:srgbClr val="3333ff"/>
                </a:solidFill>
                <a:latin typeface="Times New Roman"/>
              </a:rPr>
              <a:t>Acetil-CoA carboxilasa</a:t>
            </a:r>
            <a:r>
              <a:rPr b="0" lang="es-ES" sz="3200" spc="-1" strike="noStrike">
                <a:solidFill>
                  <a:srgbClr val="3333ff"/>
                </a:solidFill>
                <a:latin typeface="Times New Roman"/>
              </a:rPr>
              <a:t> , </a:t>
            </a:r>
            <a:r>
              <a:rPr b="0" i="1" lang="es-ES" sz="3200" spc="-1" strike="noStrike">
                <a:solidFill>
                  <a:srgbClr val="0000ff"/>
                </a:solidFill>
                <a:latin typeface="Times New Roman"/>
              </a:rPr>
              <a:t>HMG-CoA reductasa, Enzima biosíntesis ácido graso y de NAD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tabolismo de Aminoácid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nzimas del Ciclo de la U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886880" cy="1395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síntesis de 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Glucosa 6-fosfato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considera una encrucijada metabólica, su destino   depende de las necesidades de la cél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. ¿Cuáles serían los destinos de la misma en un estado de buena nutri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élula en división cel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Glándula mamaria lac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gradFill rotWithShape="0">
            <a:gsLst>
              <a:gs pos="0">
                <a:srgbClr val="006000"/>
              </a:gs>
              <a:gs pos="50000">
                <a:srgbClr val="00d000"/>
              </a:gs>
              <a:gs pos="100000">
                <a:srgbClr val="0060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NUTRICION-METABOLIS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3"/>
          <p:cNvSpPr/>
          <p:nvPr/>
        </p:nvSpPr>
        <p:spPr>
          <a:xfrm>
            <a:off x="755640" y="1484280"/>
            <a:ext cx="2665440" cy="1150920"/>
          </a:xfrm>
          <a:prstGeom prst="ellipse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L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4"/>
          <p:cNvSpPr/>
          <p:nvPr/>
        </p:nvSpPr>
        <p:spPr>
          <a:xfrm>
            <a:off x="539640" y="2997360"/>
            <a:ext cx="3024360" cy="1081080"/>
          </a:xfrm>
          <a:prstGeom prst="ellipse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NUTRIC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3492360" y="1676520"/>
            <a:ext cx="1895760" cy="16081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419640" y="3860640"/>
            <a:ext cx="936360" cy="1081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24000" y="5013360"/>
            <a:ext cx="2952720" cy="947160"/>
          </a:xfrm>
          <a:prstGeom prst="rect">
            <a:avLst/>
          </a:prstGeom>
          <a:solidFill>
            <a:srgbClr val="faef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BIOSINTESIS Y DEGRAD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851280" y="2708280"/>
            <a:ext cx="2664000" cy="520560"/>
          </a:xfrm>
          <a:prstGeom prst="rect">
            <a:avLst/>
          </a:prstGeom>
          <a:gradFill rotWithShape="0">
            <a:gsLst>
              <a:gs pos="0">
                <a:srgbClr val="365571"/>
              </a:gs>
              <a:gs pos="50000">
                <a:srgbClr val="75b8f5"/>
              </a:gs>
              <a:gs pos="100000">
                <a:srgbClr val="365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DIG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643280" y="3213000"/>
            <a:ext cx="2664000" cy="520560"/>
          </a:xfrm>
          <a:prstGeom prst="rect">
            <a:avLst/>
          </a:prstGeom>
          <a:gradFill rotWithShape="0">
            <a:gsLst>
              <a:gs pos="0">
                <a:srgbClr val="365571"/>
              </a:gs>
              <a:gs pos="50000">
                <a:srgbClr val="75b8f5"/>
              </a:gs>
              <a:gs pos="100000">
                <a:srgbClr val="365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BSOR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5364000" y="1197000"/>
            <a:ext cx="3672000" cy="1871640"/>
          </a:xfrm>
          <a:prstGeom prst="ellipse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MACROMOLEC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3780000" y="3933720"/>
            <a:ext cx="3168360" cy="1584360"/>
          </a:xfrm>
          <a:prstGeom prst="ellipse">
            <a:avLst/>
          </a:prstGeom>
          <a:solidFill>
            <a:srgbClr val="05e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METABOL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920" y="333000"/>
            <a:ext cx="88200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QUE VIAS METABOLICAS ESTAN ACTIVAS EN LAS SIGUIENTES  SITUACIONES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imes New Roman"/>
              </a:rPr>
              <a:t>Cuando se están consumiendo alimentos ricos en hidratos de carb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imes New Roman"/>
              </a:rPr>
              <a:t>Durante una carrera de 100 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imes New Roman"/>
              </a:rPr>
              <a:t>Durante una marató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25718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Diferencia metabólica en el hígado y músculo en situación de “ataque o huída”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: Durante una situación de “ataque o de huída” la adrenalina pone en marcha la degradación de glucógeno en el hígado, corazón y músculo esquelético. El producto final de la degradación del glucógeno en el hígado es la glucosa. En cambio, el producto final en el músculo esquelético es el piruva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00040" y="2999880"/>
            <a:ext cx="8429760" cy="3714840"/>
          </a:xfrm>
          <a:prstGeom prst="rect">
            <a:avLst/>
          </a:prstGeom>
          <a:solidFill>
            <a:srgbClr val="ddf6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)- ¿ Por qué se observan diferentes productos de degradación del glucógeno en los dos teji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)- ¿ Cuál es la ventaja para el organismo en una situación de “ataque o huída” de tener estas rutas específicas para la degradación del glucógeno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769160" cy="113976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PROCEDENCIAS DEL PIRUV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4240" y="1857240"/>
            <a:ext cx="7772400" cy="4114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IA GLICOLI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MINOA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69160" cy="113976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Procedencia de la Acetil-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348000" y="4349880"/>
            <a:ext cx="2219400" cy="45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5487840" y="3056040"/>
            <a:ext cx="213048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220760" y="3132000"/>
            <a:ext cx="182556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144440" y="5494320"/>
            <a:ext cx="243540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-Oxidación de á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5716440" y="5494320"/>
            <a:ext cx="182592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3048120" y="3664080"/>
            <a:ext cx="5331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1"/>
          <p:cNvSpPr/>
          <p:nvPr/>
        </p:nvSpPr>
        <p:spPr>
          <a:xfrm flipH="1">
            <a:off x="5563800" y="3624120"/>
            <a:ext cx="530280" cy="61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2"/>
          <p:cNvSpPr/>
          <p:nvPr/>
        </p:nvSpPr>
        <p:spPr>
          <a:xfrm flipV="1">
            <a:off x="2868480" y="4916520"/>
            <a:ext cx="66384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3"/>
          <p:cNvSpPr/>
          <p:nvPr/>
        </p:nvSpPr>
        <p:spPr>
          <a:xfrm flipH="1" flipV="1">
            <a:off x="5729040" y="4799160"/>
            <a:ext cx="657000" cy="473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992160" y="1760400"/>
            <a:ext cx="190188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Hidratos de Carb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6"/>
          <p:cNvSpPr/>
          <p:nvPr/>
        </p:nvSpPr>
        <p:spPr>
          <a:xfrm flipH="1">
            <a:off x="3200040" y="33526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268360" y="1773360"/>
            <a:ext cx="5112000" cy="181800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RIACILGLIC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LICEROL  +   AC. GR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4211640" y="2276640"/>
            <a:ext cx="360360" cy="936360"/>
          </a:xfrm>
          <a:prstGeom prst="downArrow">
            <a:avLst>
              <a:gd name="adj1" fmla="val 50000"/>
              <a:gd name="adj2" fmla="val 649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4"/>
          <p:cNvSpPr/>
          <p:nvPr/>
        </p:nvSpPr>
        <p:spPr>
          <a:xfrm>
            <a:off x="4859280" y="2349360"/>
            <a:ext cx="1441440" cy="57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Lipa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692360" y="3716280"/>
            <a:ext cx="136836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I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508720" y="3716280"/>
            <a:ext cx="33130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IGADO, MUSCULO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71280" y="4724280"/>
            <a:ext cx="2484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700360" y="4751280"/>
            <a:ext cx="1368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licó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6732720" y="522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etil- 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5292720" y="4653000"/>
            <a:ext cx="1152360" cy="745560"/>
          </a:xfrm>
          <a:prstGeom prst="rect">
            <a:avLst/>
          </a:prstGeom>
          <a:solidFill>
            <a:srgbClr val="cff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ADH FAD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3348000" y="530064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dena Respir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3635280" y="6237360"/>
            <a:ext cx="1368360" cy="398880"/>
          </a:xfrm>
          <a:prstGeom prst="rect">
            <a:avLst/>
          </a:prstGeom>
          <a:solidFill>
            <a:srgbClr val="ffbe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3"/>
          <p:cNvSpPr/>
          <p:nvPr/>
        </p:nvSpPr>
        <p:spPr>
          <a:xfrm>
            <a:off x="6948360" y="6138720"/>
            <a:ext cx="1079640" cy="719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.Kre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7524720" y="422100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7524720" y="55166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16"/>
          <p:cNvSpPr/>
          <p:nvPr/>
        </p:nvSpPr>
        <p:spPr>
          <a:xfrm>
            <a:off x="6443640" y="4724280"/>
            <a:ext cx="1008000" cy="36036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17"/>
          <p:cNvSpPr/>
          <p:nvPr/>
        </p:nvSpPr>
        <p:spPr>
          <a:xfrm>
            <a:off x="6156360" y="5373720"/>
            <a:ext cx="792000" cy="100800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18"/>
          <p:cNvSpPr/>
          <p:nvPr/>
        </p:nvSpPr>
        <p:spPr>
          <a:xfrm>
            <a:off x="4522680" y="4870440"/>
            <a:ext cx="770040" cy="503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9"/>
          <p:cNvSpPr/>
          <p:nvPr/>
        </p:nvSpPr>
        <p:spPr>
          <a:xfrm>
            <a:off x="4356000" y="59500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0"/>
          <p:cNvSpPr/>
          <p:nvPr/>
        </p:nvSpPr>
        <p:spPr>
          <a:xfrm flipH="1">
            <a:off x="1834920" y="4149720"/>
            <a:ext cx="43308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21"/>
          <p:cNvSpPr/>
          <p:nvPr/>
        </p:nvSpPr>
        <p:spPr>
          <a:xfrm>
            <a:off x="2627280" y="4149720"/>
            <a:ext cx="2890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7800" cy="122400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squema General de la movilización de Triglicéridos en el Tejido Adipo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23"/>
          <p:cNvSpPr/>
          <p:nvPr/>
        </p:nvSpPr>
        <p:spPr>
          <a:xfrm>
            <a:off x="2987640" y="3500280"/>
            <a:ext cx="588960" cy="505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24"/>
          <p:cNvSpPr/>
          <p:nvPr/>
        </p:nvSpPr>
        <p:spPr>
          <a:xfrm>
            <a:off x="5076720" y="3500280"/>
            <a:ext cx="503280" cy="505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5"/>
          <p:cNvSpPr/>
          <p:nvPr/>
        </p:nvSpPr>
        <p:spPr>
          <a:xfrm>
            <a:off x="7596360" y="4508640"/>
            <a:ext cx="1476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-oxid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ACIDOS GRASOS DE NUMERO IMPAR DE ATOMOS DE CARB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2944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Que beneficios tiene la utilización de ácidos grasos de número impar frente a los de número par de átomos de carbo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Que vitamina es necesaria para que puedan degradarse los últimos tres carbo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val 22"/>
          <p:cNvSpPr/>
          <p:nvPr/>
        </p:nvSpPr>
        <p:spPr>
          <a:xfrm>
            <a:off x="1692360" y="2276640"/>
            <a:ext cx="4657680" cy="3590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8208720" cy="100836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íntesis y degradación de trigliceridos en TEJIDO ADIP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547640" y="1413000"/>
            <a:ext cx="1825920" cy="70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luco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sang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4878360" y="1449360"/>
            <a:ext cx="3551400" cy="70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LDL y         Quilomic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Del hígado)     (die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908000" y="2852640"/>
            <a:ext cx="1543320" cy="458280"/>
          </a:xfrm>
          <a:prstGeom prst="rect">
            <a:avLst/>
          </a:prstGeom>
          <a:solidFill>
            <a:srgbClr val="f6cfce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4284720" y="2852640"/>
            <a:ext cx="2087640" cy="458280"/>
          </a:xfrm>
          <a:prstGeom prst="rect">
            <a:avLst/>
          </a:prstGeom>
          <a:solidFill>
            <a:srgbClr val="f6cfce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1403280" y="3754440"/>
            <a:ext cx="1873440" cy="458280"/>
          </a:xfrm>
          <a:prstGeom prst="rect">
            <a:avLst/>
          </a:prstGeom>
          <a:solidFill>
            <a:srgbClr val="f6cfce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Glicerol-3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211640" y="3835440"/>
            <a:ext cx="2303640" cy="458280"/>
          </a:xfrm>
          <a:prstGeom prst="rect">
            <a:avLst/>
          </a:prstGeom>
          <a:solidFill>
            <a:srgbClr val="f6cfce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c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2905560" y="4416480"/>
            <a:ext cx="2672280" cy="458280"/>
          </a:xfrm>
          <a:prstGeom prst="rect">
            <a:avLst/>
          </a:prstGeom>
          <a:solidFill>
            <a:srgbClr val="f6cf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TRIGLICER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2819520" y="5229360"/>
            <a:ext cx="1295280" cy="4582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Glic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4114440" y="5205240"/>
            <a:ext cx="1972800" cy="4582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1405800" y="6127920"/>
            <a:ext cx="123804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Glic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5800320" y="5877000"/>
            <a:ext cx="2905560" cy="82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Complejos ác. gras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albúm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2681280" y="2133720"/>
            <a:ext cx="0" cy="6858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5"/>
          <p:cNvSpPr/>
          <p:nvPr/>
        </p:nvSpPr>
        <p:spPr>
          <a:xfrm>
            <a:off x="5435640" y="2205000"/>
            <a:ext cx="0" cy="60948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6"/>
          <p:cNvSpPr/>
          <p:nvPr/>
        </p:nvSpPr>
        <p:spPr>
          <a:xfrm>
            <a:off x="2637000" y="3311640"/>
            <a:ext cx="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7"/>
          <p:cNvSpPr/>
          <p:nvPr/>
        </p:nvSpPr>
        <p:spPr>
          <a:xfrm>
            <a:off x="5118120" y="3235320"/>
            <a:ext cx="0" cy="6094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8"/>
          <p:cNvSpPr/>
          <p:nvPr/>
        </p:nvSpPr>
        <p:spPr>
          <a:xfrm flipH="1">
            <a:off x="2700000" y="5553000"/>
            <a:ext cx="647640" cy="60336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9"/>
          <p:cNvSpPr/>
          <p:nvPr/>
        </p:nvSpPr>
        <p:spPr>
          <a:xfrm>
            <a:off x="5076720" y="5491080"/>
            <a:ext cx="432000" cy="5050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20"/>
          <p:cNvSpPr/>
          <p:nvPr/>
        </p:nvSpPr>
        <p:spPr>
          <a:xfrm flipH="1">
            <a:off x="3419640" y="4869000"/>
            <a:ext cx="334800" cy="36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1"/>
          <p:cNvSpPr/>
          <p:nvPr/>
        </p:nvSpPr>
        <p:spPr>
          <a:xfrm>
            <a:off x="4356000" y="4941720"/>
            <a:ext cx="216000" cy="2160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23"/>
          <p:cNvSpPr/>
          <p:nvPr/>
        </p:nvSpPr>
        <p:spPr>
          <a:xfrm>
            <a:off x="3564000" y="5997600"/>
            <a:ext cx="1377720" cy="512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24"/>
          <p:cNvSpPr/>
          <p:nvPr/>
        </p:nvSpPr>
        <p:spPr>
          <a:xfrm>
            <a:off x="2911320" y="6161040"/>
            <a:ext cx="586080" cy="152280"/>
          </a:xfrm>
          <a:prstGeom prst="rightArrow">
            <a:avLst>
              <a:gd name="adj1" fmla="val 50000"/>
              <a:gd name="adj2" fmla="val 9621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25"/>
          <p:cNvSpPr/>
          <p:nvPr/>
        </p:nvSpPr>
        <p:spPr>
          <a:xfrm>
            <a:off x="4998960" y="6161040"/>
            <a:ext cx="585720" cy="152280"/>
          </a:xfrm>
          <a:prstGeom prst="leftArrow">
            <a:avLst>
              <a:gd name="adj1" fmla="val 50000"/>
              <a:gd name="adj2" fmla="val 9615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25 Elipse"/>
          <p:cNvSpPr/>
          <p:nvPr/>
        </p:nvSpPr>
        <p:spPr>
          <a:xfrm>
            <a:off x="6072120" y="4714920"/>
            <a:ext cx="3071880" cy="1214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Tejidos extrahep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86960" cy="2500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jido adipos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El tejido adiposo tiene un metabolismo dinámico, llevando a cabo biosíntesis de triglicéridos en periodos de prevalencia de sustratos y degradando los mismos en situación de ayuno.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respecto al proceso de degradación  expliqu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56680" y="2928960"/>
            <a:ext cx="8458200" cy="357192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ál ó cuales son los estímulos que puede recibir el tejido adiposo para activar la enzima clave para la lip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Que productos se liberan a sangre y cual/cuales son su/sus destin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Enumere situaciones metabólicas: fisiológicas ó patológicas que activen este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14300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tabolismo de los monosacaridos en el Hí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4"/>
          <p:cNvSpPr/>
          <p:nvPr/>
        </p:nvSpPr>
        <p:spPr>
          <a:xfrm>
            <a:off x="2050920" y="2205000"/>
            <a:ext cx="4292640" cy="2346480"/>
          </a:xfrm>
          <a:prstGeom prst="pie">
            <a:avLst/>
          </a:prstGeom>
          <a:solidFill>
            <a:srgbClr val="ff330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2843280" y="2924280"/>
            <a:ext cx="2016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250920" y="1916280"/>
            <a:ext cx="1728720" cy="138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sa y fruc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4417920" y="357336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3693960" y="4145040"/>
            <a:ext cx="224640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. Glic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9"/>
          <p:cNvSpPr/>
          <p:nvPr/>
        </p:nvSpPr>
        <p:spPr>
          <a:xfrm>
            <a:off x="3659040" y="5013360"/>
            <a:ext cx="1812960" cy="72540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500280" y="5940360"/>
            <a:ext cx="2024280" cy="94464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6372360" y="5872320"/>
            <a:ext cx="2023920" cy="94428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. de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2"/>
          <p:cNvSpPr/>
          <p:nvPr/>
        </p:nvSpPr>
        <p:spPr>
          <a:xfrm>
            <a:off x="5508720" y="6381720"/>
            <a:ext cx="855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6156360" y="3716280"/>
            <a:ext cx="166536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sa en 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4"/>
          <p:cNvSpPr/>
          <p:nvPr/>
        </p:nvSpPr>
        <p:spPr>
          <a:xfrm>
            <a:off x="1979640" y="2637000"/>
            <a:ext cx="720720" cy="36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5"/>
          <p:cNvSpPr/>
          <p:nvPr/>
        </p:nvSpPr>
        <p:spPr>
          <a:xfrm>
            <a:off x="4859280" y="3284640"/>
            <a:ext cx="129708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5651640" y="2708280"/>
            <a:ext cx="22334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Vía Pent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7"/>
          <p:cNvSpPr/>
          <p:nvPr/>
        </p:nvSpPr>
        <p:spPr>
          <a:xfrm flipV="1">
            <a:off x="5076720" y="2924280"/>
            <a:ext cx="647640" cy="7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987640" y="2205000"/>
            <a:ext cx="1873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luc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9"/>
          <p:cNvSpPr/>
          <p:nvPr/>
        </p:nvSpPr>
        <p:spPr>
          <a:xfrm flipV="1">
            <a:off x="3995640" y="2636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0"/>
          <p:cNvSpPr/>
          <p:nvPr/>
        </p:nvSpPr>
        <p:spPr>
          <a:xfrm>
            <a:off x="4500720" y="57340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1"/>
          <p:cNvSpPr/>
          <p:nvPr/>
        </p:nvSpPr>
        <p:spPr>
          <a:xfrm>
            <a:off x="1116000" y="3716280"/>
            <a:ext cx="2376360" cy="4582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geno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2"/>
          <p:cNvSpPr/>
          <p:nvPr/>
        </p:nvSpPr>
        <p:spPr>
          <a:xfrm flipV="1">
            <a:off x="2987640" y="342900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3"/>
          <p:cNvSpPr/>
          <p:nvPr/>
        </p:nvSpPr>
        <p:spPr>
          <a:xfrm flipH="1">
            <a:off x="2700360" y="63086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24"/>
          <p:cNvSpPr/>
          <p:nvPr/>
        </p:nvSpPr>
        <p:spPr>
          <a:xfrm>
            <a:off x="490680" y="5872320"/>
            <a:ext cx="2313000" cy="94428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íntesi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5"/>
          <p:cNvSpPr/>
          <p:nvPr/>
        </p:nvSpPr>
        <p:spPr>
          <a:xfrm>
            <a:off x="0" y="4797360"/>
            <a:ext cx="9144000" cy="2060640"/>
          </a:xfrm>
          <a:prstGeom prst="rect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Oval 17"/>
          <p:cNvSpPr/>
          <p:nvPr/>
        </p:nvSpPr>
        <p:spPr>
          <a:xfrm>
            <a:off x="3780000" y="5854680"/>
            <a:ext cx="2523960" cy="1003320"/>
          </a:xfrm>
          <a:prstGeom prst="ellipse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3995640" y="6035760"/>
            <a:ext cx="2192400" cy="458280"/>
          </a:xfrm>
          <a:prstGeom prst="rect">
            <a:avLst/>
          </a:prstGeom>
          <a:solidFill>
            <a:srgbClr val="abf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clo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2"/>
          <p:cNvSpPr/>
          <p:nvPr/>
        </p:nvSpPr>
        <p:spPr>
          <a:xfrm>
            <a:off x="2124000" y="2492280"/>
            <a:ext cx="4292640" cy="2346480"/>
          </a:xfrm>
          <a:prstGeom prst="pie">
            <a:avLst/>
          </a:prstGeom>
          <a:solidFill>
            <a:srgbClr val="ff330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059680" cy="113976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tabolismo de los Acidos Grasos en el HÍG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6521760" y="1557360"/>
            <a:ext cx="2015280" cy="82404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ipo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las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6300720" y="2924280"/>
            <a:ext cx="2797200" cy="118980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idos grasos (unidos Albúmina) llegan de la 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5076720" y="4365720"/>
            <a:ext cx="2303640" cy="50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ADH, FAD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2987640" y="4365720"/>
            <a:ext cx="1655640" cy="3974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oxid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8"/>
          <p:cNvSpPr/>
          <p:nvPr/>
        </p:nvSpPr>
        <p:spPr>
          <a:xfrm flipV="1">
            <a:off x="5364000" y="2133720"/>
            <a:ext cx="1008360" cy="88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9"/>
          <p:cNvSpPr/>
          <p:nvPr/>
        </p:nvSpPr>
        <p:spPr>
          <a:xfrm>
            <a:off x="5076720" y="35733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3781440" y="5086440"/>
            <a:ext cx="215748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1"/>
          <p:cNvSpPr/>
          <p:nvPr/>
        </p:nvSpPr>
        <p:spPr>
          <a:xfrm>
            <a:off x="4716360" y="400536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4"/>
          <p:cNvSpPr/>
          <p:nvPr/>
        </p:nvSpPr>
        <p:spPr>
          <a:xfrm flipH="1">
            <a:off x="2771640" y="53737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5"/>
          <p:cNvSpPr/>
          <p:nvPr/>
        </p:nvSpPr>
        <p:spPr>
          <a:xfrm>
            <a:off x="4716360" y="4005360"/>
            <a:ext cx="36036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6"/>
          <p:cNvSpPr/>
          <p:nvPr/>
        </p:nvSpPr>
        <p:spPr>
          <a:xfrm>
            <a:off x="4859280" y="558972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0"/>
          <p:cNvSpPr/>
          <p:nvPr/>
        </p:nvSpPr>
        <p:spPr>
          <a:xfrm>
            <a:off x="6372360" y="6165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24"/>
          <p:cNvSpPr/>
          <p:nvPr/>
        </p:nvSpPr>
        <p:spPr>
          <a:xfrm>
            <a:off x="6588000" y="5950080"/>
            <a:ext cx="107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7451640" y="6021360"/>
            <a:ext cx="863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27"/>
          <p:cNvSpPr/>
          <p:nvPr/>
        </p:nvSpPr>
        <p:spPr>
          <a:xfrm>
            <a:off x="3209760" y="5589720"/>
            <a:ext cx="7308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O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29"/>
          <p:cNvSpPr/>
          <p:nvPr/>
        </p:nvSpPr>
        <p:spPr>
          <a:xfrm>
            <a:off x="2914920" y="2852640"/>
            <a:ext cx="2464920" cy="45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ipidos hepa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30"/>
          <p:cNvSpPr/>
          <p:nvPr/>
        </p:nvSpPr>
        <p:spPr>
          <a:xfrm>
            <a:off x="2987280" y="3429000"/>
            <a:ext cx="2048760" cy="45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cidos gra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31"/>
          <p:cNvSpPr/>
          <p:nvPr/>
        </p:nvSpPr>
        <p:spPr>
          <a:xfrm>
            <a:off x="324000" y="5013360"/>
            <a:ext cx="2016000" cy="458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MG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2"/>
          <p:cNvSpPr/>
          <p:nvPr/>
        </p:nvSpPr>
        <p:spPr>
          <a:xfrm>
            <a:off x="318960" y="3352680"/>
            <a:ext cx="116208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33"/>
          <p:cNvSpPr/>
          <p:nvPr/>
        </p:nvSpPr>
        <p:spPr>
          <a:xfrm>
            <a:off x="1547640" y="364500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2556000" y="2492280"/>
            <a:ext cx="296640" cy="22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eri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35"/>
          <p:cNvSpPr/>
          <p:nvPr/>
        </p:nvSpPr>
        <p:spPr>
          <a:xfrm>
            <a:off x="2160" y="6165720"/>
            <a:ext cx="1508040" cy="45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36"/>
          <p:cNvSpPr/>
          <p:nvPr/>
        </p:nvSpPr>
        <p:spPr>
          <a:xfrm>
            <a:off x="1619280" y="6091200"/>
            <a:ext cx="1584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er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37"/>
          <p:cNvSpPr/>
          <p:nvPr/>
        </p:nvSpPr>
        <p:spPr>
          <a:xfrm flipH="1">
            <a:off x="880560" y="5646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38"/>
          <p:cNvSpPr/>
          <p:nvPr/>
        </p:nvSpPr>
        <p:spPr>
          <a:xfrm>
            <a:off x="1835280" y="56610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39"/>
          <p:cNvSpPr/>
          <p:nvPr/>
        </p:nvSpPr>
        <p:spPr>
          <a:xfrm flipH="1" flipV="1">
            <a:off x="3851280" y="5805360"/>
            <a:ext cx="433440" cy="14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0"/>
          <p:cNvSpPr/>
          <p:nvPr/>
        </p:nvSpPr>
        <p:spPr>
          <a:xfrm>
            <a:off x="0" y="4724280"/>
            <a:ext cx="3203640" cy="2133720"/>
          </a:xfrm>
          <a:prstGeom prst="rect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5400" y="3789360"/>
            <a:ext cx="9135360" cy="2962080"/>
            <a:chOff x="5400" y="3789360"/>
            <a:chExt cx="9135360" cy="2962080"/>
          </a:xfrm>
        </p:grpSpPr>
        <p:sp>
          <p:nvSpPr>
            <p:cNvPr id="61" name="AutoShape 3"/>
            <p:cNvSpPr/>
            <p:nvPr/>
          </p:nvSpPr>
          <p:spPr>
            <a:xfrm flipH="1">
              <a:off x="3419640" y="4292640"/>
              <a:ext cx="1800000" cy="431640"/>
            </a:xfrm>
            <a:custGeom>
              <a:avLst/>
              <a:gdLst>
                <a:gd name="textAreaLeft" fmla="*/ 315000 w 1800000"/>
                <a:gd name="textAreaRight" fmla="*/ 1305000 w 1800000"/>
                <a:gd name="textAreaTop" fmla="*/ 57600 h 431640"/>
                <a:gd name="textAreaBottom" fmla="*/ 3740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4"/>
            <p:cNvSpPr/>
            <p:nvPr/>
          </p:nvSpPr>
          <p:spPr>
            <a:xfrm>
              <a:off x="6066000" y="3789360"/>
              <a:ext cx="3074760" cy="2654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olécul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recurso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Monosacár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66"/>
                  </a:solidFill>
                  <a:latin typeface="Arial"/>
                </a:rPr>
                <a:t>Ácidos gra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minoác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Bases nitrogenad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5400" y="4097160"/>
              <a:ext cx="2719800" cy="2654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acromolécul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elula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Polisacár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66"/>
                  </a:solidFill>
                  <a:latin typeface="Arial"/>
                </a:rPr>
                <a:t>Líp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Proteín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Ácidos Nucleic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utoShape 6"/>
            <p:cNvSpPr/>
            <p:nvPr/>
          </p:nvSpPr>
          <p:spPr>
            <a:xfrm>
              <a:off x="2340000" y="4581360"/>
              <a:ext cx="3672000" cy="1368720"/>
            </a:xfrm>
            <a:prstGeom prst="leftArrow">
              <a:avLst>
                <a:gd name="adj1" fmla="val 41296"/>
                <a:gd name="adj2" fmla="val 51780"/>
              </a:avLst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VIAS ANABOL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(Síntesis reductor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7"/>
          <p:cNvGrpSpPr/>
          <p:nvPr/>
        </p:nvGrpSpPr>
        <p:grpSpPr>
          <a:xfrm>
            <a:off x="2160" y="260280"/>
            <a:ext cx="9140400" cy="4176720"/>
            <a:chOff x="2160" y="260280"/>
            <a:chExt cx="9140400" cy="4176720"/>
          </a:xfrm>
        </p:grpSpPr>
        <p:sp>
          <p:nvSpPr>
            <p:cNvPr id="66" name="Text Box 8"/>
            <p:cNvSpPr/>
            <p:nvPr/>
          </p:nvSpPr>
          <p:spPr>
            <a:xfrm>
              <a:off x="2160" y="549360"/>
              <a:ext cx="2262600" cy="2654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utrient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ntene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de Energí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Carbohidra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66"/>
                  </a:solidFill>
                  <a:latin typeface="Arial"/>
                </a:rPr>
                <a:t>Líp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Proteín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9"/>
            <p:cNvSpPr/>
            <p:nvPr/>
          </p:nvSpPr>
          <p:spPr>
            <a:xfrm>
              <a:off x="2340000" y="765000"/>
              <a:ext cx="4896000" cy="1584360"/>
            </a:xfrm>
            <a:prstGeom prst="rightArrow">
              <a:avLst>
                <a:gd name="adj1" fmla="val 45657"/>
                <a:gd name="adj2" fmla="val 57669"/>
              </a:avLst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VIAS CATABOLIC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(Degradación oxidativ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0"/>
            <p:cNvSpPr/>
            <p:nvPr/>
          </p:nvSpPr>
          <p:spPr>
            <a:xfrm>
              <a:off x="7370640" y="260280"/>
              <a:ext cx="1771920" cy="31075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roduct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ina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arent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de Energí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CO</a:t>
              </a:r>
              <a:r>
                <a:rPr b="1" lang="es-ES_tradnl" sz="2400" spc="-1" strike="noStrike" baseline="-18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r>
                <a:rPr b="1" lang="es-ES_tradnl" sz="2400" spc="-1" strike="noStrike" baseline="-18000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s-ES_tradnl" sz="2400" spc="-1" strike="noStrike" baseline="-18000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11"/>
            <p:cNvSpPr/>
            <p:nvPr/>
          </p:nvSpPr>
          <p:spPr>
            <a:xfrm>
              <a:off x="4211640" y="2492280"/>
              <a:ext cx="2016000" cy="17287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s-ES_tradnl" sz="2400" spc="-1" strike="noStrike" baseline="-18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2"/>
            <p:cNvSpPr/>
            <p:nvPr/>
          </p:nvSpPr>
          <p:spPr>
            <a:xfrm>
              <a:off x="5974920" y="2755800"/>
              <a:ext cx="1183680" cy="703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ergí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Quím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13"/>
            <p:cNvSpPr/>
            <p:nvPr/>
          </p:nvSpPr>
          <p:spPr>
            <a:xfrm>
              <a:off x="3203640" y="1989000"/>
              <a:ext cx="2016000" cy="505080"/>
            </a:xfrm>
            <a:custGeom>
              <a:avLst/>
              <a:gdLst>
                <a:gd name="textAreaLeft" fmla="*/ 352800 w 2016000"/>
                <a:gd name="textAreaRight" fmla="*/ 1461600 w 2016000"/>
                <a:gd name="textAreaTop" fmla="*/ 67680 h 505080"/>
                <a:gd name="textAreaBottom" fmla="*/ 43740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14"/>
            <p:cNvSpPr/>
            <p:nvPr/>
          </p:nvSpPr>
          <p:spPr>
            <a:xfrm>
              <a:off x="2050920" y="2565360"/>
              <a:ext cx="2160720" cy="18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_tradnl" sz="2400" spc="-1" strike="noStrike" baseline="24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ADP</a:t>
              </a:r>
              <a:r>
                <a:rPr b="1" lang="es-ES_tradnl" sz="2400" spc="-1" strike="noStrike" baseline="26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DP+HPO</a:t>
              </a:r>
              <a:r>
                <a:rPr b="1" lang="es-ES_tradnl" sz="2400" spc="-1" strike="noStrike" baseline="-18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s-ES_tradnl" sz="2400" spc="-1" strike="noStrike" baseline="24000">
                  <a:solidFill>
                    <a:srgbClr val="000000"/>
                  </a:solidFill>
                  <a:latin typeface="Arial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Line 43"/>
          <p:cNvSpPr/>
          <p:nvPr/>
        </p:nvSpPr>
        <p:spPr>
          <a:xfrm>
            <a:off x="4716360" y="4365720"/>
            <a:ext cx="987480" cy="107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2"/>
          <p:cNvSpPr/>
          <p:nvPr/>
        </p:nvSpPr>
        <p:spPr>
          <a:xfrm>
            <a:off x="2050920" y="2492280"/>
            <a:ext cx="6353280" cy="2346480"/>
          </a:xfrm>
          <a:prstGeom prst="pie">
            <a:avLst/>
          </a:prstGeom>
          <a:solidFill>
            <a:srgbClr val="ff330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21480" cy="9446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tabolismo de los Aminoácidos en el Hí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3353400" y="1703520"/>
            <a:ext cx="2719440" cy="45828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teinas hep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250920" y="1268280"/>
            <a:ext cx="2340000" cy="118980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ucleótidos Hormo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orfir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4022640" y="263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6659640" y="1268280"/>
            <a:ext cx="2233440" cy="82404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teínas plas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438280" y="3733920"/>
            <a:ext cx="33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492360" y="2924280"/>
            <a:ext cx="2374920" cy="824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minoácidos en el hí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6877080" y="3357720"/>
            <a:ext cx="1944720" cy="118980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minoácidos                       en 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7020000" y="2349360"/>
            <a:ext cx="1511280" cy="82404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teí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s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"/>
          <p:cNvSpPr/>
          <p:nvPr/>
        </p:nvSpPr>
        <p:spPr>
          <a:xfrm flipV="1">
            <a:off x="4211640" y="2274480"/>
            <a:ext cx="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3"/>
          <p:cNvSpPr/>
          <p:nvPr/>
        </p:nvSpPr>
        <p:spPr>
          <a:xfrm flipV="1">
            <a:off x="5796000" y="1844640"/>
            <a:ext cx="79200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4"/>
          <p:cNvSpPr/>
          <p:nvPr/>
        </p:nvSpPr>
        <p:spPr>
          <a:xfrm flipV="1">
            <a:off x="5940360" y="2781000"/>
            <a:ext cx="100800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5"/>
          <p:cNvSpPr/>
          <p:nvPr/>
        </p:nvSpPr>
        <p:spPr>
          <a:xfrm>
            <a:off x="5940360" y="3573360"/>
            <a:ext cx="79236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6"/>
          <p:cNvSpPr/>
          <p:nvPr/>
        </p:nvSpPr>
        <p:spPr>
          <a:xfrm flipH="1" flipV="1">
            <a:off x="2700000" y="2276640"/>
            <a:ext cx="1096920" cy="79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9"/>
          <p:cNvSpPr/>
          <p:nvPr/>
        </p:nvSpPr>
        <p:spPr>
          <a:xfrm>
            <a:off x="5292720" y="4508640"/>
            <a:ext cx="971640" cy="50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20"/>
          <p:cNvSpPr/>
          <p:nvPr/>
        </p:nvSpPr>
        <p:spPr>
          <a:xfrm>
            <a:off x="6516720" y="4797360"/>
            <a:ext cx="31896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1"/>
          <p:cNvSpPr/>
          <p:nvPr/>
        </p:nvSpPr>
        <p:spPr>
          <a:xfrm>
            <a:off x="6877080" y="4508640"/>
            <a:ext cx="865080" cy="45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U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2"/>
          <p:cNvSpPr/>
          <p:nvPr/>
        </p:nvSpPr>
        <p:spPr>
          <a:xfrm>
            <a:off x="0" y="4941720"/>
            <a:ext cx="1692360" cy="824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ógeno  en mús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2055600" y="5157720"/>
            <a:ext cx="123660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24"/>
          <p:cNvSpPr/>
          <p:nvPr/>
        </p:nvSpPr>
        <p:spPr>
          <a:xfrm flipH="1">
            <a:off x="3225600" y="5373720"/>
            <a:ext cx="33804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25"/>
          <p:cNvSpPr/>
          <p:nvPr/>
        </p:nvSpPr>
        <p:spPr>
          <a:xfrm flipH="1">
            <a:off x="1692360" y="537372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26"/>
          <p:cNvSpPr/>
          <p:nvPr/>
        </p:nvSpPr>
        <p:spPr>
          <a:xfrm>
            <a:off x="4284720" y="57340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7"/>
          <p:cNvSpPr/>
          <p:nvPr/>
        </p:nvSpPr>
        <p:spPr>
          <a:xfrm>
            <a:off x="1547640" y="6093000"/>
            <a:ext cx="198756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8"/>
          <p:cNvSpPr/>
          <p:nvPr/>
        </p:nvSpPr>
        <p:spPr>
          <a:xfrm flipH="1">
            <a:off x="3492360" y="6237360"/>
            <a:ext cx="3384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9"/>
          <p:cNvSpPr/>
          <p:nvPr/>
        </p:nvSpPr>
        <p:spPr>
          <a:xfrm>
            <a:off x="5400" y="6021360"/>
            <a:ext cx="116820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ip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30"/>
          <p:cNvSpPr/>
          <p:nvPr/>
        </p:nvSpPr>
        <p:spPr>
          <a:xfrm flipH="1">
            <a:off x="1116000" y="6237360"/>
            <a:ext cx="450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1"/>
          <p:cNvSpPr/>
          <p:nvPr/>
        </p:nvSpPr>
        <p:spPr>
          <a:xfrm>
            <a:off x="8106120" y="5373720"/>
            <a:ext cx="793080" cy="45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33"/>
          <p:cNvSpPr/>
          <p:nvPr/>
        </p:nvSpPr>
        <p:spPr>
          <a:xfrm>
            <a:off x="-92160" y="636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35"/>
          <p:cNvSpPr/>
          <p:nvPr/>
        </p:nvSpPr>
        <p:spPr>
          <a:xfrm>
            <a:off x="7451640" y="5661000"/>
            <a:ext cx="6494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36"/>
          <p:cNvSpPr/>
          <p:nvPr/>
        </p:nvSpPr>
        <p:spPr>
          <a:xfrm>
            <a:off x="3276720" y="3860640"/>
            <a:ext cx="2663640" cy="458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GRAD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37"/>
          <p:cNvSpPr/>
          <p:nvPr/>
        </p:nvSpPr>
        <p:spPr>
          <a:xfrm>
            <a:off x="3576600" y="5013360"/>
            <a:ext cx="1932120" cy="65736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38"/>
          <p:cNvSpPr/>
          <p:nvPr/>
        </p:nvSpPr>
        <p:spPr>
          <a:xfrm>
            <a:off x="3780000" y="6012000"/>
            <a:ext cx="1931760" cy="65700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39"/>
          <p:cNvSpPr/>
          <p:nvPr/>
        </p:nvSpPr>
        <p:spPr>
          <a:xfrm>
            <a:off x="5580000" y="5373720"/>
            <a:ext cx="2232000" cy="6476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ICLO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0"/>
          <p:cNvSpPr/>
          <p:nvPr/>
        </p:nvSpPr>
        <p:spPr>
          <a:xfrm flipV="1">
            <a:off x="5651640" y="6021360"/>
            <a:ext cx="74448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44"/>
          <p:cNvSpPr/>
          <p:nvPr/>
        </p:nvSpPr>
        <p:spPr>
          <a:xfrm>
            <a:off x="324000" y="2637000"/>
            <a:ext cx="1944360" cy="101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45"/>
          <p:cNvSpPr/>
          <p:nvPr/>
        </p:nvSpPr>
        <p:spPr>
          <a:xfrm>
            <a:off x="2340000" y="3284640"/>
            <a:ext cx="1079640" cy="73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46"/>
          <p:cNvSpPr/>
          <p:nvPr/>
        </p:nvSpPr>
        <p:spPr>
          <a:xfrm>
            <a:off x="179280" y="3789360"/>
            <a:ext cx="1871640" cy="118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inoácidos Proteínas mu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47"/>
          <p:cNvSpPr/>
          <p:nvPr/>
        </p:nvSpPr>
        <p:spPr>
          <a:xfrm flipV="1">
            <a:off x="2195640" y="3933360"/>
            <a:ext cx="1152360" cy="358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49"/>
          <p:cNvSpPr/>
          <p:nvPr/>
        </p:nvSpPr>
        <p:spPr>
          <a:xfrm rot="5943600">
            <a:off x="5879520" y="4137120"/>
            <a:ext cx="289080" cy="3142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50"/>
          <p:cNvSpPr/>
          <p:nvPr/>
        </p:nvSpPr>
        <p:spPr>
          <a:xfrm>
            <a:off x="4572000" y="4437000"/>
            <a:ext cx="0" cy="576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51"/>
          <p:cNvSpPr/>
          <p:nvPr/>
        </p:nvSpPr>
        <p:spPr>
          <a:xfrm>
            <a:off x="0" y="5013360"/>
            <a:ext cx="9144000" cy="1915920"/>
          </a:xfrm>
          <a:prstGeom prst="rect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44 Elipse"/>
          <p:cNvSpPr/>
          <p:nvPr/>
        </p:nvSpPr>
        <p:spPr>
          <a:xfrm>
            <a:off x="2286000" y="4286160"/>
            <a:ext cx="2071800" cy="714600"/>
          </a:xfrm>
          <a:prstGeom prst="ellipse">
            <a:avLst/>
          </a:prstGeom>
          <a:solidFill>
            <a:srgbClr val="ffe5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C. CETO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46 Conector recto de flecha"/>
          <p:cNvCxnSpPr>
            <a:endCxn id="376" idx="6"/>
          </p:cNvCxnSpPr>
          <p:nvPr/>
        </p:nvCxnSpPr>
        <p:spPr>
          <a:xfrm flipH="1">
            <a:off x="4284360" y="4429080"/>
            <a:ext cx="216720" cy="32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7640" y="189000"/>
            <a:ext cx="8893080" cy="8906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tabolismo en el Músc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2631960" y="1197000"/>
            <a:ext cx="157500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5148360" y="1413000"/>
            <a:ext cx="160632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c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4680" y="2870280"/>
            <a:ext cx="2557800" cy="118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A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Cuerpos ceto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lucosa en 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680560" y="4192560"/>
            <a:ext cx="125496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DP+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5062680" y="4192560"/>
            <a:ext cx="110304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3907440" y="5334120"/>
            <a:ext cx="179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6539040" y="3200400"/>
            <a:ext cx="2216160" cy="45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Fosfocre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6816600" y="3962520"/>
            <a:ext cx="1511280" cy="45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111240" y="1341360"/>
            <a:ext cx="2464920" cy="45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</a:rPr>
              <a:t>Actividad inten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reeform 14"/>
          <p:cNvSpPr/>
          <p:nvPr/>
        </p:nvSpPr>
        <p:spPr>
          <a:xfrm>
            <a:off x="3348000" y="2060640"/>
            <a:ext cx="2886120" cy="105408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Freeform 15"/>
          <p:cNvSpPr/>
          <p:nvPr/>
        </p:nvSpPr>
        <p:spPr>
          <a:xfrm>
            <a:off x="3328920" y="3124080"/>
            <a:ext cx="2697120" cy="91620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6"/>
          <p:cNvSpPr/>
          <p:nvPr/>
        </p:nvSpPr>
        <p:spPr>
          <a:xfrm>
            <a:off x="2593800" y="3141720"/>
            <a:ext cx="382752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7"/>
          <p:cNvSpPr/>
          <p:nvPr/>
        </p:nvSpPr>
        <p:spPr>
          <a:xfrm>
            <a:off x="7620120" y="3581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18"/>
          <p:cNvSpPr/>
          <p:nvPr/>
        </p:nvSpPr>
        <p:spPr>
          <a:xfrm>
            <a:off x="7791480" y="3576600"/>
            <a:ext cx="717480" cy="3906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19"/>
          <p:cNvSpPr/>
          <p:nvPr/>
        </p:nvSpPr>
        <p:spPr>
          <a:xfrm>
            <a:off x="7653240" y="3652920"/>
            <a:ext cx="214560" cy="237960"/>
          </a:xfrm>
          <a:prstGeom prst="rightArrow">
            <a:avLst>
              <a:gd name="adj1" fmla="val 50000"/>
              <a:gd name="adj2" fmla="val 25009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reeform 20"/>
          <p:cNvSpPr/>
          <p:nvPr/>
        </p:nvSpPr>
        <p:spPr>
          <a:xfrm>
            <a:off x="3573360" y="4660920"/>
            <a:ext cx="2251080" cy="611280"/>
          </a:xfrm>
          <a:prstGeom prst="pie">
            <a:avLst/>
          </a:prstGeom>
          <a:noFill/>
          <a:ln cap="rnd" w="255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1"/>
          <p:cNvSpPr/>
          <p:nvPr/>
        </p:nvSpPr>
        <p:spPr>
          <a:xfrm>
            <a:off x="6372360" y="5445000"/>
            <a:ext cx="1771560" cy="45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icó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22"/>
          <p:cNvSpPr/>
          <p:nvPr/>
        </p:nvSpPr>
        <p:spPr>
          <a:xfrm>
            <a:off x="5813280" y="57913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3"/>
          <p:cNvSpPr/>
          <p:nvPr/>
        </p:nvSpPr>
        <p:spPr>
          <a:xfrm flipH="1">
            <a:off x="2987640" y="5734080"/>
            <a:ext cx="100656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4"/>
          <p:cNvSpPr/>
          <p:nvPr/>
        </p:nvSpPr>
        <p:spPr>
          <a:xfrm>
            <a:off x="34920" y="5229360"/>
            <a:ext cx="2879640" cy="101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CICLO DE C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CICLO GLU-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5"/>
          <p:cNvSpPr/>
          <p:nvPr/>
        </p:nvSpPr>
        <p:spPr>
          <a:xfrm>
            <a:off x="6375600" y="4653000"/>
            <a:ext cx="2464920" cy="45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</a:rPr>
              <a:t>Actividad inten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216000" y="2293920"/>
            <a:ext cx="3527280" cy="4582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tividad ligera o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p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6443640" y="2852640"/>
            <a:ext cx="1006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769160" cy="125388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Fuentes de energía en Cereb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841680" y="2211480"/>
            <a:ext cx="254880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5345640" y="2058840"/>
            <a:ext cx="695880" cy="50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44320" y="3429000"/>
            <a:ext cx="123660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2750400" y="3887640"/>
            <a:ext cx="125496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DP+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5299200" y="3933720"/>
            <a:ext cx="79308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2411280" y="5084640"/>
            <a:ext cx="669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Transporte electrogénico por la 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ATP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Metabolismo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Freeform 9"/>
          <p:cNvSpPr/>
          <p:nvPr/>
        </p:nvSpPr>
        <p:spPr>
          <a:xfrm>
            <a:off x="3429000" y="2666880"/>
            <a:ext cx="2124000" cy="61128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Freeform 10"/>
          <p:cNvSpPr/>
          <p:nvPr/>
        </p:nvSpPr>
        <p:spPr>
          <a:xfrm>
            <a:off x="3581280" y="3276720"/>
            <a:ext cx="2090880" cy="45864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reeform 11"/>
          <p:cNvSpPr/>
          <p:nvPr/>
        </p:nvSpPr>
        <p:spPr>
          <a:xfrm>
            <a:off x="3708360" y="4437000"/>
            <a:ext cx="1703520" cy="611280"/>
          </a:xfrm>
          <a:prstGeom prst="pie">
            <a:avLst/>
          </a:prstGeom>
          <a:noFill/>
          <a:ln cap="rnd" w="414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2"/>
          <p:cNvSpPr/>
          <p:nvPr/>
        </p:nvSpPr>
        <p:spPr>
          <a:xfrm flipV="1">
            <a:off x="1187280" y="4005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468360" y="4653000"/>
            <a:ext cx="160956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eta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4"/>
          <p:cNvSpPr/>
          <p:nvPr/>
        </p:nvSpPr>
        <p:spPr>
          <a:xfrm>
            <a:off x="324000" y="1628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YUNO, DI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0720" y="85680"/>
            <a:ext cx="8816760" cy="749520"/>
          </a:xfrm>
          <a:prstGeom prst="rect">
            <a:avLst/>
          </a:prstGeom>
          <a:solidFill>
            <a:srgbClr val="00e0a5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ADOS METABOLIC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CICLO AYUNO-ALIMENT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60480" y="914400"/>
            <a:ext cx="9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1619280" y="98100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urso tem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144360" y="1484280"/>
            <a:ext cx="18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POSPRAND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4356000" y="907920"/>
            <a:ext cx="223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ncipales           combustibles u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6732720" y="8380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trol Horm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32608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2125800" y="1486080"/>
            <a:ext cx="100476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0 – 4 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4067280" y="1628640"/>
            <a:ext cx="2449440" cy="579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La mayoría de los tejidos utilizan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GLUC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6659640" y="1916280"/>
            <a:ext cx="2305080" cy="640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tación glucosa 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ejidos perifér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ucógeno,TG,sintesis proteí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2"/>
          <p:cNvSpPr/>
          <p:nvPr/>
        </p:nvSpPr>
        <p:spPr>
          <a:xfrm>
            <a:off x="-92160" y="347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250920" y="2708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AYU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152280" y="426708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INANICION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5"/>
          <p:cNvSpPr/>
          <p:nvPr/>
        </p:nvSpPr>
        <p:spPr>
          <a:xfrm>
            <a:off x="3924360" y="3933720"/>
            <a:ext cx="2663640" cy="1309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CEREBR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lgunos C.CETÓ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MUSCUL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C. GRASOS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y algunos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.CETO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289080" y="59817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INANICION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8"/>
          <p:cNvSpPr/>
          <p:nvPr/>
        </p:nvSpPr>
        <p:spPr>
          <a:xfrm>
            <a:off x="3848760" y="5589720"/>
            <a:ext cx="2949840" cy="945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Times New Roman"/>
              </a:rPr>
              <a:t>CEREBR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:utiliza &gt;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.CETON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Times New Roman"/>
              </a:rPr>
              <a:t>MUSCULO: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sol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C. GRA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9"/>
          <p:cNvSpPr/>
          <p:nvPr/>
        </p:nvSpPr>
        <p:spPr>
          <a:xfrm>
            <a:off x="6804000" y="3213000"/>
            <a:ext cx="2160720" cy="518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 estimula la rotur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lucogeno hepático y 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20"/>
          <p:cNvSpPr/>
          <p:nvPr/>
        </p:nvSpPr>
        <p:spPr>
          <a:xfrm>
            <a:off x="684216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21"/>
          <p:cNvSpPr/>
          <p:nvPr/>
        </p:nvSpPr>
        <p:spPr>
          <a:xfrm>
            <a:off x="6653160" y="4292640"/>
            <a:ext cx="221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Hidrólisis TG y Cetoge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2052720" y="2782800"/>
            <a:ext cx="122076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4 – 12 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23"/>
          <p:cNvSpPr/>
          <p:nvPr/>
        </p:nvSpPr>
        <p:spPr>
          <a:xfrm>
            <a:off x="2052720" y="4294080"/>
            <a:ext cx="172548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12 hs – 16 d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24"/>
          <p:cNvSpPr/>
          <p:nvPr/>
        </p:nvSpPr>
        <p:spPr>
          <a:xfrm>
            <a:off x="2197080" y="5951520"/>
            <a:ext cx="122076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&gt; 16 d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28"/>
          <p:cNvGrpSpPr/>
          <p:nvPr/>
        </p:nvGrpSpPr>
        <p:grpSpPr>
          <a:xfrm>
            <a:off x="3995640" y="2565360"/>
            <a:ext cx="2481480" cy="1117440"/>
            <a:chOff x="3995640" y="2565360"/>
            <a:chExt cx="2481480" cy="1117440"/>
          </a:xfrm>
        </p:grpSpPr>
        <p:sp>
          <p:nvSpPr>
            <p:cNvPr id="438" name="Rectangle 25"/>
            <p:cNvSpPr/>
            <p:nvPr/>
          </p:nvSpPr>
          <p:spPr>
            <a:xfrm>
              <a:off x="3995640" y="2565360"/>
              <a:ext cx="2336760" cy="1065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EREBRO</a:t>
              </a:r>
              <a:r>
                <a:rPr b="1" lang="es-ES_tradnl" sz="16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GLUCO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Times New Roman"/>
                </a:rPr>
                <a:t>MUSCU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Times New Roman"/>
                </a:rPr>
                <a:t>HIG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26"/>
            <p:cNvSpPr/>
            <p:nvPr/>
          </p:nvSpPr>
          <p:spPr>
            <a:xfrm>
              <a:off x="5396040" y="3103560"/>
              <a:ext cx="108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ACIDOS GRAS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27"/>
            <p:cNvSpPr/>
            <p:nvPr/>
          </p:nvSpPr>
          <p:spPr>
            <a:xfrm>
              <a:off x="5180040" y="3103560"/>
              <a:ext cx="217440" cy="5047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Line 29"/>
          <p:cNvSpPr/>
          <p:nvPr/>
        </p:nvSpPr>
        <p:spPr>
          <a:xfrm flipV="1">
            <a:off x="7164360" y="1483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30"/>
          <p:cNvSpPr/>
          <p:nvPr/>
        </p:nvSpPr>
        <p:spPr>
          <a:xfrm>
            <a:off x="7375680" y="1479600"/>
            <a:ext cx="116172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INSUL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31"/>
          <p:cNvSpPr/>
          <p:nvPr/>
        </p:nvSpPr>
        <p:spPr>
          <a:xfrm flipV="1">
            <a:off x="6732720" y="234792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32"/>
          <p:cNvSpPr/>
          <p:nvPr/>
        </p:nvSpPr>
        <p:spPr>
          <a:xfrm flipV="1">
            <a:off x="6732720" y="191448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3"/>
          <p:cNvSpPr/>
          <p:nvPr/>
        </p:nvSpPr>
        <p:spPr>
          <a:xfrm>
            <a:off x="6727680" y="2776680"/>
            <a:ext cx="227664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GLUCAGON Y ADR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34"/>
          <p:cNvSpPr/>
          <p:nvPr/>
        </p:nvSpPr>
        <p:spPr>
          <a:xfrm flipV="1">
            <a:off x="6588000" y="278136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35"/>
          <p:cNvSpPr/>
          <p:nvPr/>
        </p:nvSpPr>
        <p:spPr>
          <a:xfrm>
            <a:off x="6764400" y="3855960"/>
            <a:ext cx="227628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GLUCAGON Y ADR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36"/>
          <p:cNvSpPr/>
          <p:nvPr/>
        </p:nvSpPr>
        <p:spPr>
          <a:xfrm>
            <a:off x="6630840" y="5084640"/>
            <a:ext cx="2522880" cy="518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otura de proteína musc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aminoácidos p/gluconeoge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37"/>
          <p:cNvSpPr/>
          <p:nvPr/>
        </p:nvSpPr>
        <p:spPr>
          <a:xfrm flipV="1">
            <a:off x="6659640" y="386028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8"/>
          <p:cNvSpPr/>
          <p:nvPr/>
        </p:nvSpPr>
        <p:spPr>
          <a:xfrm>
            <a:off x="7159680" y="4719600"/>
            <a:ext cx="116208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CORTI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39"/>
          <p:cNvSpPr/>
          <p:nvPr/>
        </p:nvSpPr>
        <p:spPr>
          <a:xfrm flipV="1">
            <a:off x="6877080" y="4723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40"/>
          <p:cNvSpPr/>
          <p:nvPr/>
        </p:nvSpPr>
        <p:spPr>
          <a:xfrm>
            <a:off x="6978600" y="6087960"/>
            <a:ext cx="217008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GLUCAGON Y ADR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41"/>
          <p:cNvSpPr/>
          <p:nvPr/>
        </p:nvSpPr>
        <p:spPr>
          <a:xfrm flipV="1">
            <a:off x="6877080" y="609300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7576c"/>
              </a:gs>
              <a:gs pos="50000">
                <a:srgbClr val="bdbde9"/>
              </a:gs>
              <a:gs pos="100000">
                <a:srgbClr val="57576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UTAS METABOL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2217" t="10492" r="12633" b="54240"/>
          <a:stretch/>
        </p:blipFill>
        <p:spPr>
          <a:xfrm>
            <a:off x="34920" y="1773360"/>
            <a:ext cx="8640720" cy="50655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3132000" y="3716280"/>
            <a:ext cx="1008360" cy="703800"/>
          </a:xfrm>
          <a:prstGeom prst="rect">
            <a:avLst/>
          </a:prstGeom>
          <a:solidFill>
            <a:srgbClr val="bdbde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24000" y="4581360"/>
            <a:ext cx="2160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tabolismo conver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724360" y="5300640"/>
            <a:ext cx="2160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Anabolismo Diver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716360" y="3645000"/>
            <a:ext cx="2232000" cy="3988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Acetoacetil-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516720" y="2492280"/>
            <a:ext cx="1368360" cy="3988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oleste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4788000" y="4437000"/>
            <a:ext cx="1800000" cy="3988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Acidos Gr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3"/>
          <p:cNvSpPr/>
          <p:nvPr/>
        </p:nvSpPr>
        <p:spPr>
          <a:xfrm>
            <a:off x="179280" y="3141720"/>
            <a:ext cx="1871640" cy="1224000"/>
          </a:xfrm>
          <a:prstGeom prst="ellipse">
            <a:avLst/>
          </a:prstGeom>
          <a:solidFill>
            <a:srgbClr val="4fef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VITAM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"/>
          <p:cNvSpPr/>
          <p:nvPr/>
        </p:nvSpPr>
        <p:spPr>
          <a:xfrm>
            <a:off x="2268360" y="3139920"/>
            <a:ext cx="2016360" cy="1152720"/>
          </a:xfrm>
          <a:prstGeom prst="ellipse">
            <a:avLst/>
          </a:prstGeom>
          <a:solidFill>
            <a:srgbClr val="4fef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6"/>
          <p:cNvSpPr/>
          <p:nvPr/>
        </p:nvSpPr>
        <p:spPr>
          <a:xfrm rot="16200000">
            <a:off x="1295280" y="728640"/>
            <a:ext cx="1224000" cy="3313080"/>
          </a:xfrm>
          <a:prstGeom prst="leftArrowCallout">
            <a:avLst>
              <a:gd name="adj1" fmla="val 67675"/>
              <a:gd name="adj2" fmla="val 67669"/>
              <a:gd name="adj3" fmla="val 16667"/>
              <a:gd name="adj4" fmla="val 66673"/>
            </a:avLst>
          </a:prstGeom>
          <a:solidFill>
            <a:srgbClr val="4fef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55640" y="1916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10"/>
          <p:cNvSpPr/>
          <p:nvPr/>
        </p:nvSpPr>
        <p:spPr>
          <a:xfrm rot="16200000">
            <a:off x="5904000" y="151920"/>
            <a:ext cx="1368360" cy="4032360"/>
          </a:xfrm>
          <a:prstGeom prst="leftArrowCallout">
            <a:avLst>
              <a:gd name="adj1" fmla="val 73678"/>
              <a:gd name="adj2" fmla="val 73671"/>
              <a:gd name="adj3" fmla="val 16667"/>
              <a:gd name="adj4" fmla="val 66673"/>
            </a:avLst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 flipH="1" flipV="1" rot="10800000">
            <a:off x="5507640" y="1773360"/>
            <a:ext cx="2490840" cy="520560"/>
          </a:xfrm>
          <a:prstGeom prst="rect">
            <a:avLst/>
          </a:prstGeom>
          <a:solidFill>
            <a:srgbClr val="00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ENER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5940360" y="3068640"/>
            <a:ext cx="1513080" cy="520560"/>
          </a:xfrm>
          <a:prstGeom prst="rect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755640" y="189000"/>
            <a:ext cx="8064360" cy="8006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24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VIAS METABOL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5"/>
          <p:cNvSpPr/>
          <p:nvPr/>
        </p:nvSpPr>
        <p:spPr>
          <a:xfrm rot="16200000">
            <a:off x="6084000" y="2851920"/>
            <a:ext cx="1440000" cy="4321440"/>
          </a:xfrm>
          <a:prstGeom prst="leftArrowCallout">
            <a:avLst>
              <a:gd name="adj1" fmla="val 75032"/>
              <a:gd name="adj2" fmla="val 75025"/>
              <a:gd name="adj3" fmla="val 16667"/>
              <a:gd name="adj4" fmla="val 66673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PODER RE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6012000" y="6093000"/>
            <a:ext cx="1873080" cy="520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NAD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69160" cy="865080"/>
          </a:xfrm>
          <a:prstGeom prst="rect">
            <a:avLst/>
          </a:prstGeom>
          <a:gradFill rotWithShape="0">
            <a:gsLst>
              <a:gs pos="0">
                <a:srgbClr val="0e521b"/>
              </a:gs>
              <a:gs pos="50000">
                <a:srgbClr val="1fb13b"/>
              </a:gs>
              <a:gs pos="100000">
                <a:srgbClr val="0e521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APEL REGULADOR DEL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7160" y="1341360"/>
            <a:ext cx="1575000" cy="45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luc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361240" y="1341360"/>
            <a:ext cx="1100880" cy="45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r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113360" y="1341360"/>
            <a:ext cx="1422360" cy="45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247080" y="1341360"/>
            <a:ext cx="2379600" cy="45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cidos Nucle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2584440"/>
            <a:ext cx="1971720" cy="458280"/>
          </a:xfrm>
          <a:prstGeom prst="rect">
            <a:avLst/>
          </a:pr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211480" y="2571840"/>
            <a:ext cx="1784160" cy="458280"/>
          </a:xfrm>
          <a:prstGeom prst="rect">
            <a:avLst/>
          </a:pr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040280" y="2492280"/>
            <a:ext cx="1971720" cy="458280"/>
          </a:xfrm>
          <a:prstGeom prst="rect">
            <a:avLst/>
          </a:pr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6461280" y="2297160"/>
            <a:ext cx="161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rina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rimid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124080" y="400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3354480" y="5373720"/>
            <a:ext cx="793080" cy="4582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5370120" y="3213000"/>
            <a:ext cx="730800" cy="50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762120" y="1874880"/>
            <a:ext cx="0" cy="5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5"/>
          <p:cNvSpPr/>
          <p:nvPr/>
        </p:nvSpPr>
        <p:spPr>
          <a:xfrm flipV="1">
            <a:off x="990720" y="1874520"/>
            <a:ext cx="0" cy="5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2819520" y="1874880"/>
            <a:ext cx="0" cy="5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7"/>
          <p:cNvSpPr/>
          <p:nvPr/>
        </p:nvSpPr>
        <p:spPr>
          <a:xfrm flipV="1">
            <a:off x="2971800" y="1868400"/>
            <a:ext cx="0" cy="54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4648320" y="1874880"/>
            <a:ext cx="0" cy="5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9"/>
          <p:cNvSpPr/>
          <p:nvPr/>
        </p:nvSpPr>
        <p:spPr>
          <a:xfrm flipV="1">
            <a:off x="4800600" y="1798560"/>
            <a:ext cx="0" cy="54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7086600" y="1874880"/>
            <a:ext cx="0" cy="5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1"/>
          <p:cNvSpPr/>
          <p:nvPr/>
        </p:nvSpPr>
        <p:spPr>
          <a:xfrm flipV="1">
            <a:off x="7238880" y="1798560"/>
            <a:ext cx="0" cy="54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2"/>
          <p:cNvSpPr/>
          <p:nvPr/>
        </p:nvSpPr>
        <p:spPr>
          <a:xfrm>
            <a:off x="1547640" y="3100320"/>
            <a:ext cx="1008360" cy="6159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3419640" y="2976480"/>
            <a:ext cx="72720" cy="7398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4"/>
          <p:cNvSpPr/>
          <p:nvPr/>
        </p:nvSpPr>
        <p:spPr>
          <a:xfrm flipH="1">
            <a:off x="4427280" y="2997360"/>
            <a:ext cx="390600" cy="7189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26"/>
          <p:cNvSpPr/>
          <p:nvPr/>
        </p:nvSpPr>
        <p:spPr>
          <a:xfrm>
            <a:off x="2411280" y="3645000"/>
            <a:ext cx="2219400" cy="11523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C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7"/>
          <p:cNvSpPr/>
          <p:nvPr/>
        </p:nvSpPr>
        <p:spPr>
          <a:xfrm>
            <a:off x="3635280" y="4869000"/>
            <a:ext cx="238320" cy="390240"/>
          </a:xfrm>
          <a:prstGeom prst="downArrow">
            <a:avLst>
              <a:gd name="adj1" fmla="val 50000"/>
              <a:gd name="adj2" fmla="val 40952"/>
            </a:avLst>
          </a:prstGeom>
          <a:solidFill>
            <a:srgbClr val="1fb13b"/>
          </a:solidFill>
          <a:ln w="12600">
            <a:solidFill>
              <a:srgbClr val="157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28"/>
          <p:cNvSpPr/>
          <p:nvPr/>
        </p:nvSpPr>
        <p:spPr>
          <a:xfrm>
            <a:off x="4643280" y="3213000"/>
            <a:ext cx="505080" cy="36036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29"/>
          <p:cNvSpPr/>
          <p:nvPr/>
        </p:nvSpPr>
        <p:spPr>
          <a:xfrm>
            <a:off x="6084720" y="3716280"/>
            <a:ext cx="1225800" cy="46692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U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0"/>
          <p:cNvSpPr/>
          <p:nvPr/>
        </p:nvSpPr>
        <p:spPr>
          <a:xfrm>
            <a:off x="5076720" y="3573360"/>
            <a:ext cx="80496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31"/>
          <p:cNvSpPr/>
          <p:nvPr/>
        </p:nvSpPr>
        <p:spPr>
          <a:xfrm>
            <a:off x="4211640" y="4941720"/>
            <a:ext cx="649440" cy="1916280"/>
          </a:xfrm>
          <a:prstGeom prst="pie">
            <a:avLst/>
          </a:prstGeom>
          <a:noFill/>
          <a:ln cap="rnd"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32"/>
          <p:cNvSpPr/>
          <p:nvPr/>
        </p:nvSpPr>
        <p:spPr>
          <a:xfrm>
            <a:off x="4716360" y="5013360"/>
            <a:ext cx="719280" cy="5763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33"/>
          <p:cNvSpPr/>
          <p:nvPr/>
        </p:nvSpPr>
        <p:spPr>
          <a:xfrm>
            <a:off x="4757760" y="5948280"/>
            <a:ext cx="677880" cy="5763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5651640" y="4869000"/>
            <a:ext cx="3168360" cy="824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ías que consumen energía (Biosínte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5"/>
          <p:cNvSpPr/>
          <p:nvPr/>
        </p:nvSpPr>
        <p:spPr>
          <a:xfrm>
            <a:off x="5565600" y="5846760"/>
            <a:ext cx="3399120" cy="824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sos generadores de energía (Degrad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6"/>
          <p:cNvSpPr/>
          <p:nvPr/>
        </p:nvSpPr>
        <p:spPr>
          <a:xfrm flipH="1" flipV="1">
            <a:off x="2484000" y="503856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7"/>
          <p:cNvSpPr/>
          <p:nvPr/>
        </p:nvSpPr>
        <p:spPr>
          <a:xfrm>
            <a:off x="179280" y="4822920"/>
            <a:ext cx="21607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ransporte a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8"/>
          <p:cNvSpPr/>
          <p:nvPr/>
        </p:nvSpPr>
        <p:spPr>
          <a:xfrm>
            <a:off x="179280" y="5997600"/>
            <a:ext cx="21607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idos Nucle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9"/>
          <p:cNvSpPr/>
          <p:nvPr/>
        </p:nvSpPr>
        <p:spPr>
          <a:xfrm flipH="1">
            <a:off x="2411280" y="6046920"/>
            <a:ext cx="8654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0"/>
          <p:cNvSpPr/>
          <p:nvPr/>
        </p:nvSpPr>
        <p:spPr>
          <a:xfrm>
            <a:off x="34920" y="5470560"/>
            <a:ext cx="280836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tracción Mus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41"/>
          <p:cNvSpPr/>
          <p:nvPr/>
        </p:nvSpPr>
        <p:spPr>
          <a:xfrm flipH="1">
            <a:off x="2916000" y="57578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991280" cy="1503360"/>
          </a:xfrm>
          <a:prstGeom prst="rect">
            <a:avLst/>
          </a:prstGeom>
          <a:solidFill>
            <a:srgbClr val="ddf6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Ejemplifique en cada caso de que manera el ATP actúa como regulad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abe9ff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Ciclo de Kre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Desaminación oxidativa de aminoá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Biosíntesis de nucleótidos pú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73080"/>
            <a:ext cx="8424720" cy="90792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ODER REDUCTOR-NAD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2610000"/>
            <a:ext cx="860436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BIOSIN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ANTENER REDUCIDO EL GL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REDUCCION DE COENZIMAS: BH</a:t>
            </a:r>
            <a:r>
              <a:rPr b="0" lang="es-A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GLUTAMATO DESHIDRO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DEGRADACION DEL HEMO:HEMOOXI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ITOCROMO P450 EN MICROS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780000" y="2349360"/>
            <a:ext cx="467964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ACIDOS GRASOS SATURADOS E INSATU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HORMONAS ESTERO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NUCLEO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44360" y="1197000"/>
            <a:ext cx="8820360" cy="8254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SE SINTETIZA EN VIA PENTOSAS Y EN REACCION DE LA ENZIMA MA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062920" cy="121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ff"/>
                </a:solidFill>
                <a:latin typeface="Times New Roman"/>
              </a:rPr>
              <a:t>2) El NADPH es un agente reductor  importante utilizado en rutas anabólica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1714680"/>
            <a:ext cx="9144000" cy="453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a)  Ejemplifique con reacciones de 3 vías metabólicas diferentes donde se utilice este compues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b) Esquematice reacciones donde se reponga NADPH a partir de la forma oxid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c) Indique la importancia de ese compuesto en reacciones de detoxificación. (recuerde la importancia del citocromo P4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4:00:43Z</dcterms:created>
  <dc:creator>pc</dc:creator>
  <dc:description/>
  <dc:language>en-US</dc:language>
  <cp:lastModifiedBy>Irma</cp:lastModifiedBy>
  <dcterms:modified xsi:type="dcterms:W3CDTF">2013-10-29T21:01:28Z</dcterms:modified>
  <cp:revision>128</cp:revision>
  <dc:subject/>
  <dc:title>Destinos de Piruvato y de Acetil-CoA</dc:title>
</cp:coreProperties>
</file>